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5EA-7DB0-41C5-9340-671BBBC3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C83-2460-42D5-8502-8289701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8C9-9CE0-497E-AFF5-130DC4E2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EEA-F285-4DDC-83AB-7DB176E0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63F-91FA-45E3-AC77-64E19162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3DB-DC4F-4BDB-BAF4-51668F6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5FD-F1B3-4463-BA1E-E6EC2A33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B12-0ABC-43C5-AD59-7867977A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C69-7B9E-4BBE-A54D-94421EE4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A37-DD24-4378-A46D-126B351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7B1-42C6-48CB-9B2E-5F0D8041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62E-ABE4-41B5-9E0F-A1EF033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B993-838C-41AB-9F21-111E2F13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Ride the New 25-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ountain Bike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Veterans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609480"/>
            <a:ext cx="73152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me Play in the Dir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124080"/>
            <a:ext cx="3047760" cy="37339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8471000">
            <a:off x="1080720" y="4710240"/>
            <a:ext cx="161928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Now Ope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-2475360" y="2932200"/>
            <a:ext cx="60548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ome Play in the Dir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Riding in the bike par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3624000">
            <a:off x="990360" y="1066680"/>
            <a:ext cx="3886200" cy="49528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657600" y="228600"/>
            <a:ext cx="470052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ide Safe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4329200">
            <a:off x="-87840" y="1535760"/>
            <a:ext cx="4952880" cy="3252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8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Real Trails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718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 rot="4926600">
            <a:off x="-376200" y="1747800"/>
            <a:ext cx="35719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For the Family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22:59Z</dcterms:created>
  <dc:creator>765860</dc:creator>
  <dc:description/>
  <dc:language>en-US</dc:language>
  <cp:lastModifiedBy>765860</cp:lastModifiedBy>
  <dcterms:modified xsi:type="dcterms:W3CDTF">2009-03-31T15:39:56Z</dcterms:modified>
  <cp:revision>4</cp:revision>
  <dc:subject/>
  <dc:title> </dc:title>
</cp:coreProperties>
</file>